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075F1F-4805-4C7E-8938-AA8B7B702737}" type="slidenum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7887113-EFBD-44CF-B77D-7F1E50407C89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D293612-DE16-40F6-8A89-C68C046050A3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B12-301B-41BC-AF73-ED37A56E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734-4E47-4A97-AD9E-07799A91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368-B7C9-400E-BAA4-B48B5E4D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1F9-21E7-4BA3-94D8-2F1EFBA8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7155D-0F9F-4438-990E-72A53B5A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EA14E-5E8A-474D-9F67-6DBA5C88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DBCA9-9000-4084-A003-3188774C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54A99-A582-49E4-89B8-EFC5E561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5728C-F5F4-4B95-B1A0-58C99C5E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52A87-1490-4051-A614-1B67CBD5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82DB6-02A3-48BE-AACA-2D9DFF00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899-3F6E-422B-884F-4B8DAA30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05973-88F7-4BE3-AA75-E352CE0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F5AAA-98B1-4AB0-9740-D3994EF4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56B24-086F-4586-AC65-E10069DB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83734-961E-4848-9B63-EFE91C4F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DC1A3-00D3-48B1-8C3D-E464711F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58F4-733D-4976-9241-4C88F491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D1FEF-F2E4-4A6E-BC75-526C9D13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CA94-7520-4E02-BEC3-50E9447F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1EF4-AB19-4DB3-9E42-B51D8095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2F93-ABCC-4243-814B-0F0BD895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0B2-0A08-4680-B874-9BF30755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7D618-F696-4A04-81ED-FC284F7A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14BB-F174-4A92-8AC5-C9F7A23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796F-410C-4C12-9B1F-58DDA14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D978-376C-4E8C-B196-7C7F7CCD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532E-8D5F-4B1E-95BD-984B95DF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E365-5FA4-4D37-851D-D786AFD1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4C22-AA67-4C73-9E64-BA8ED071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C5D1-B33A-43FF-9F97-A84F94FF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412EE-4BAF-4778-A035-86C5E131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4DD5A-7B21-4AE7-8F68-1DDDB298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508-D078-4CF5-9633-31370050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13876-46C4-4CB0-8DD3-94554425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1A28-5C68-4FAD-B8F8-755465E3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1CF40-F297-40C6-817C-3C4F3FD8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E691-00B4-4E1C-986F-F60AEECC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FA34-0B55-44F3-BD3D-FC19949E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F0584-0FE4-4527-8408-01FD0284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3E145-64AE-4D9C-9F99-95D0C5E5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F8432-4ADD-4BD0-9B2C-6084152B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619D-DC2C-4080-905B-1912EE90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B1532-02E9-4F94-AB91-4058CB42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FAD-7D9C-4E26-AA8B-EC19A0D9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3B540-D506-419E-B749-C7FD8F61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4A6D8-B36E-419C-A85B-ECE3FC2D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03768-37B4-4E6A-81E9-9D1091FF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4AE82-21DC-4EF7-961C-8E197B1C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F3ED-DED1-4C9C-AC36-B96F4B8D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BF189-9F15-467B-9C57-62DDCA86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A6379-7DE2-4F46-9AA1-61FBA2DF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B568C-CD8C-4279-9E92-6B26F470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AC87F-E5D7-4FD1-8704-3E56876B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685A7-4918-4BD2-BB3E-EEF5949D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DC9-20C8-49A8-B782-E4ECF59E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50F1C-2051-4918-8DEB-4B982382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867-D8E1-4CF3-82E6-EA244D6E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6F8-C8D8-448C-94DE-357A5CF8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12C-D570-4742-B367-714927C2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7B4A-8E22-4F74-BD21-C53D2467E4CA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5" name="Picture 10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7" name="Picture 14" descr="THL_KV_LOGO_PPT.JPG"/>
          <p:cNvPicPr/>
          <p:nvPr/>
        </p:nvPicPr>
        <p:blipFill>
          <a:blip r:embed="rId3"/>
          <a:stretch/>
        </p:blipFill>
        <p:spPr>
          <a:xfrm>
            <a:off x="2209680" y="5226120"/>
            <a:ext cx="4572000" cy="226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E143-7CF9-4CF2-BAC8-1D5DBBFF06F3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9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92" name="Suorakulmio 6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C745-DA37-4293-BE74-5FAFAADF7B6D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35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Suorakulmio 7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683-8258-47CA-97DD-9C5C7FDB8D87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8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82" name="Suorakulmio 5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2469-F01B-4157-8FCC-3800A4ECDC0A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6524-503D-4774-8995-59CA5DAC3E0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RAC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 Agency Risk Assessment Conferenc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he Finnish experiences since 2010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3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74" name="Picture 7" descr="ylabanneri_7.jpg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Aims of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authorities/agencie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are information between authorities to increase the safety, health and well-being of victims and their childre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 the risk of har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, cut costs of violence, decrease unnecessary work, improve follow-up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victi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Reduce repeat victimization/reoccurrence of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rove the safety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f the victim of domestic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8671-2711-4E2D-A12C-95E2307501E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730A-4C6D-49FE-BC56-239B9FB45A4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0" name="Pyöristetty suorakulmio 4"/>
          <p:cNvSpPr/>
          <p:nvPr/>
        </p:nvSpPr>
        <p:spPr>
          <a:xfrm>
            <a:off x="2805120" y="246240"/>
            <a:ext cx="2305080" cy="10951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Identify the Victim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1" name="Pyöristetty suorakulmio 5"/>
          <p:cNvSpPr/>
          <p:nvPr/>
        </p:nvSpPr>
        <p:spPr>
          <a:xfrm>
            <a:off x="2805120" y="1557360"/>
            <a:ext cx="2305080" cy="100800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Do the Risk Assessment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(MARAC form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yöristetty suorakulmio 6"/>
          <p:cNvSpPr/>
          <p:nvPr/>
        </p:nvSpPr>
        <p:spPr>
          <a:xfrm>
            <a:off x="1258920" y="2708280"/>
            <a:ext cx="1657440" cy="1015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not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Alanuoli 7"/>
          <p:cNvSpPr/>
          <p:nvPr/>
        </p:nvSpPr>
        <p:spPr>
          <a:xfrm rot="2700000">
            <a:off x="3080880" y="273312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Alanuoli 8"/>
          <p:cNvSpPr/>
          <p:nvPr/>
        </p:nvSpPr>
        <p:spPr>
          <a:xfrm rot="18900000">
            <a:off x="4379760" y="27338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yöristetty suorakulmio 9"/>
          <p:cNvSpPr/>
          <p:nvPr/>
        </p:nvSpPr>
        <p:spPr>
          <a:xfrm>
            <a:off x="5003640" y="2708280"/>
            <a:ext cx="1656000" cy="1015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is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yöristetty suorakulmio 10"/>
          <p:cNvSpPr/>
          <p:nvPr/>
        </p:nvSpPr>
        <p:spPr>
          <a:xfrm>
            <a:off x="1035000" y="4038480"/>
            <a:ext cx="1160640" cy="1152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yöristetty suorakulmio 11"/>
          <p:cNvSpPr/>
          <p:nvPr/>
        </p:nvSpPr>
        <p:spPr>
          <a:xfrm>
            <a:off x="5003640" y="395136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Ask for consent for MARAC team handling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yöristetty suorakulmio 12"/>
          <p:cNvSpPr/>
          <p:nvPr/>
        </p:nvSpPr>
        <p:spPr>
          <a:xfrm>
            <a:off x="6408720" y="3936960"/>
            <a:ext cx="1116000" cy="115092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150920"/>
              <a:gd name="textAreaBottom" fmla="*/ 1096560 h 115092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 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yöristetty suorakulmio 13"/>
          <p:cNvSpPr/>
          <p:nvPr/>
        </p:nvSpPr>
        <p:spPr>
          <a:xfrm>
            <a:off x="7667640" y="3951360"/>
            <a:ext cx="1081080" cy="1152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24">
                <a:moveTo>
                  <a:pt x="3600" y="0"/>
                </a:moveTo>
                <a:arcTo wR="3600" hR="3600" stAng="16200000" swAng="-5400000"/>
                <a:lnTo>
                  <a:pt x="0" y="19424"/>
                </a:lnTo>
                <a:arcTo wR="3600" hR="3600" stAng="10800000" swAng="-5400000"/>
                <a:lnTo>
                  <a:pt x="18000" y="23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Offer contact to victim support 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Alanuoli 14"/>
          <p:cNvSpPr/>
          <p:nvPr/>
        </p:nvSpPr>
        <p:spPr>
          <a:xfrm rot="2700000">
            <a:off x="5181840" y="5301000"/>
            <a:ext cx="432000" cy="503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yöristetty suorakulmio 15"/>
          <p:cNvSpPr/>
          <p:nvPr/>
        </p:nvSpPr>
        <p:spPr>
          <a:xfrm>
            <a:off x="2698920" y="5133960"/>
            <a:ext cx="2304720" cy="11527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Post the MARAC form and the consent form to the local MARAC team’s secret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e MARAC process 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4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E378-23BA-4EDF-B364-2258B2359B9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54680" cy="4620960"/>
          </a:xfrm>
          <a:prstGeom prst="rect">
            <a:avLst/>
          </a:prstGeom>
          <a:ln w="0">
            <a:noFill/>
          </a:ln>
        </p:spPr>
      </p:pic>
      <p:sp>
        <p:nvSpPr>
          <p:cNvPr id="347" name="Nuoli oikealle 6"/>
          <p:cNvSpPr/>
          <p:nvPr/>
        </p:nvSpPr>
        <p:spPr>
          <a:xfrm>
            <a:off x="468360" y="2090880"/>
            <a:ext cx="934920" cy="574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39560" y="3645000"/>
            <a:ext cx="963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0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1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3F68-2F43-4FEA-AB05-87E48553891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4760" y="23760"/>
            <a:ext cx="7134480" cy="5886360"/>
          </a:xfrm>
          <a:prstGeom prst="rect">
            <a:avLst/>
          </a:prstGeom>
          <a:ln w="0">
            <a:noFill/>
          </a:ln>
        </p:spPr>
      </p:pic>
      <p:sp>
        <p:nvSpPr>
          <p:cNvPr id="353" name="Tekstiruutu 4"/>
          <p:cNvSpPr/>
          <p:nvPr/>
        </p:nvSpPr>
        <p:spPr>
          <a:xfrm>
            <a:off x="324000" y="692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The risk assesment form is a tool for mapping violence: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isk Indicator Checklis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355" name="Sisällön paikkamerkki 2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45520" cy="4992480"/>
          </a:xfrm>
          <a:prstGeom prst="rect">
            <a:avLst/>
          </a:prstGeom>
          <a:ln w="0">
            <a:noFill/>
          </a:ln>
        </p:spPr>
      </p:pic>
      <p:sp>
        <p:nvSpPr>
          <p:cNvPr id="35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7" name="Alatunnisteen paikkamerkki 4"/>
          <p:cNvSpPr/>
          <p:nvPr/>
        </p:nvSpPr>
        <p:spPr>
          <a:xfrm>
            <a:off x="1541520" y="6597720"/>
            <a:ext cx="604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73B7-07A7-45F3-B3FC-EA89DE9D1FD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n example of the MARAC-team’s Agenda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88560"/>
            <a:ext cx="82184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genda of the MARAC-team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Time: Wednesday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28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1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2018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 at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3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0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Place: </a:t>
            </a:r>
            <a:r>
              <a:rPr b="0" lang="lt-LT" sz="1800" spc="-1" strike="noStrike">
                <a:solidFill>
                  <a:srgbClr val="303030"/>
                </a:solidFill>
                <a:latin typeface="Arial"/>
              </a:rPr>
              <a:t>Leona Paegles 1, Cesi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Opening of the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pproval of Agenda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Minutes of previous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omination of Chair and Secretary for 2018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Status of case 9/2017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KM1/2018, presented by polic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HK 2/2018, presented by social services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xt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Closing of the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DECF-FEDC-400B-84C8-9317E0CF854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sults of the model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2828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UK police: MARAC decreased reoccurring of domestic violence cases by 2/3 (2004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Cardiff: 60 % of victims handled by MARAC did not face reoccurrance of violence in the following 6 months (2004, 2009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Finland, after 6 months of entering MARAC, 15 % of victims had faced reoccurrence of domestic violence (when 6 months prior to entering, likelyhood of reoccurrance was at 60% level), thus, MARAC reduced reoccurring crime offence reports by over 70 %  (2015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C402-4149-4B8E-98DB-13CE65F4539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THL study of the effectivity (2010-2015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ata collection: Police records, victim interview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382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cases have been referred to MARAC in Finland during 1.10.2010-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0.3.2015 , who gave consent to use data in the study (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95 % of victims are wome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Police files were pulled six months after the MARAC was held (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N=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03030"/>
                </a:solidFill>
                <a:latin typeface="Arial"/>
              </a:rPr>
              <a:t>365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terviews (n=70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0145-7B8E-4DFC-8B8F-D6876804824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ge of the victim referred to MARAC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484280"/>
          <a:ext cx="8218440" cy="29671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Not specified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8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</a:tbl>
          </a:graphicData>
        </a:graphic>
      </p:graphicFrame>
      <p:sp>
        <p:nvSpPr>
          <p:cNvPr id="37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3E5E-B066-4726-AC59-DC060F67711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9" name="Tekstiruutu 8"/>
          <p:cNvSpPr/>
          <p:nvPr/>
        </p:nvSpPr>
        <p:spPr>
          <a:xfrm>
            <a:off x="1289880" y="5181480"/>
            <a:ext cx="43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Most often victims are 25-44 years ol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eoccurrence of violence and abuse</a:t>
            </a:r>
            <a:br>
              <a:rPr sz="2800"/>
            </a:b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(recorded before and 6 months after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484280"/>
          <a:ext cx="8218440" cy="2311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.2010-30.3.201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6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prior to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32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6 months after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</a:tbl>
          </a:graphicData>
        </a:graphic>
      </p:graphicFrame>
      <p:sp>
        <p:nvSpPr>
          <p:cNvPr id="3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4B42-5395-4733-908D-5C293A86D90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5" name="Tekstiruutu 7"/>
          <p:cNvSpPr/>
          <p:nvPr/>
        </p:nvSpPr>
        <p:spPr>
          <a:xfrm>
            <a:off x="1163160" y="4537080"/>
            <a:ext cx="72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Re-</a:t>
            </a:r>
            <a:r>
              <a:rPr b="0" lang="en-GB" sz="1800" spc="-1" strike="noStrike">
                <a:solidFill>
                  <a:srgbClr val="303030"/>
                </a:solidFill>
                <a:latin typeface="Arial"/>
                <a:ea typeface="Arial"/>
              </a:rPr>
              <a:t>victimisation was reduced in more than 70 per cent of the case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Structure of the presentation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y: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Prevalence and impact of violence against women and domestic violence in Europe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at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is MARAC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How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MARAC works and our experiences of its effectivity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1CEE-CC94-41D3-A984-C4697CDE401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0ABA-EFD8-49DF-8FE6-D66DE89CA01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Tekstiruutu 4"/>
          <p:cNvSpPr/>
          <p:nvPr/>
        </p:nvSpPr>
        <p:spPr>
          <a:xfrm>
            <a:off x="755640" y="907920"/>
            <a:ext cx="2879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MARAC in Finland in 2017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overs over 2,5 million inhabitants (population of 5,4 millio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4 MARAC teams function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Over 100 municipalities, 1-3 in each County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90" name="Kuva 5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Key factors for succeeding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303030"/>
                </a:solidFill>
                <a:uFillTx/>
                <a:latin typeface="Arial"/>
              </a:rPr>
              <a:t>When adapting the model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eparat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funds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/project funds necessary for start-up/pilot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For the model to work, asking about violence should be mad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routine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 in client encounters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ystematic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training of professionals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rucia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Winning over the hearts and minds of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uperior(s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B322-E985-4912-8BBC-865DAADAEFA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with regard to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nland ratified the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Istanbul Convention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(CoE Convention on preventing and combating violence against women and domestic violence) in 1.8.2015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bligates the state to fully address Violence against Women it in all its forms and to take measure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violence against wom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its victim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secute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the perpetrators.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18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multi-agency collaboratio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51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k assessment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nd risk managemen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FA3E-BBF3-4B33-88AF-C3499809460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(continues)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ocial Welfare Act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orce 1.4.2015. 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Obligates the local municipalitie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vide services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o a person encountering violence, incl. Domestic and Interpersonal Violence.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e Act on reimbursement out of State funds for providers of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helters for victims of domestic violenc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rce 1.1.2015.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financed by the state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uarantees qualitative and comprehensive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rvices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n for anyone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– women, men and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hildren of all ages – who have experienced acts or are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reatened by acts of domestic violence. (Children usually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tay in the shelter with their parent.)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E8C7-93FA-4613-AD6B-ADE21EB50FC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EDEF-795F-4FD2-89C4-3C3AED8A043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843280" y="289080"/>
            <a:ext cx="3456000" cy="6279840"/>
          </a:xfrm>
          <a:prstGeom prst="rect">
            <a:avLst/>
          </a:prstGeom>
          <a:ln w="0">
            <a:noFill/>
          </a:ln>
        </p:spPr>
      </p:pic>
      <p:sp>
        <p:nvSpPr>
          <p:cNvPr id="410" name="Tekstiruutu 4"/>
          <p:cNvSpPr/>
          <p:nvPr/>
        </p:nvSpPr>
        <p:spPr>
          <a:xfrm>
            <a:off x="324000" y="1484280"/>
            <a:ext cx="419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Shelters in Finland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in 2017: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Now 143 places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T.b. Increased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Funding +40 %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ank you!</a:t>
            </a:r>
            <a:br>
              <a:rPr sz="3600"/>
            </a:b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280" y="3789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martta.october@thl.fi, +358 29 524 7710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thl.fi/marak (mostly in Finnish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safelives.org.uk (MARAC info/UK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ED20-A62C-451E-8163-91736237A1D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16" name="Picture 2" descr="M:\_Pictures\pöllöt.PNG"/>
          <p:cNvPicPr/>
          <p:nvPr/>
        </p:nvPicPr>
        <p:blipFill>
          <a:blip r:embed="rId1"/>
          <a:stretch/>
        </p:blipFill>
        <p:spPr>
          <a:xfrm>
            <a:off x="1593720" y="1052640"/>
            <a:ext cx="5913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5640" y="-150120"/>
            <a:ext cx="755964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v-LV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81" name="Sisällön paikkamerkki 6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165720"/>
          </a:xfrm>
          <a:prstGeom prst="rect">
            <a:avLst/>
          </a:prstGeom>
          <a:ln w="0">
            <a:noFill/>
          </a:ln>
        </p:spPr>
      </p:pic>
      <p:sp>
        <p:nvSpPr>
          <p:cNvPr id="2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2873-4E92-4FF9-A52F-2834545B6E5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A5A8-B977-49BC-AED3-5A2D722C479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88" name="Kuva 4" descr=""/>
          <p:cNvPicPr/>
          <p:nvPr/>
        </p:nvPicPr>
        <p:blipFill>
          <a:blip r:embed="rId1"/>
          <a:stretch/>
        </p:blipFill>
        <p:spPr>
          <a:xfrm>
            <a:off x="609480" y="0"/>
            <a:ext cx="791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Domestic violence (even only between parents) is an ACE (Adverse Childhood Experience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90" name="Sisällön paikkamerkki 7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6985080" cy="4951440"/>
          </a:xfrm>
          <a:prstGeom prst="rect">
            <a:avLst/>
          </a:prstGeom>
          <a:ln w="0">
            <a:noFill/>
          </a:ln>
        </p:spPr>
      </p:pic>
      <p:sp>
        <p:nvSpPr>
          <p:cNvPr id="29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17F4-01C8-4479-93EE-05A03507BB8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519b2f"/>
                </a:solidFill>
                <a:latin typeface="Arial"/>
              </a:rPr>
              <a:t>Homicides in Intimate partner relationships in Finland</a:t>
            </a:r>
            <a:endParaRPr b="1" lang="en-US" sz="32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95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119-86A9-4510-94B6-53C76FE1070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397160" y="1674720"/>
            <a:ext cx="63388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Violence against women in intimate partner relations </a:t>
            </a:r>
            <a:br>
              <a:rPr sz="2800"/>
            </a:b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– the whole pictur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6C58-F946-4FAF-B2AF-542A58C5A9A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54800" cy="40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2073240" y="309564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1447920" y="4229280"/>
            <a:ext cx="804600" cy="15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tretch/>
        </p:blipFill>
        <p:spPr>
          <a:xfrm>
            <a:off x="7770960" y="3174840"/>
            <a:ext cx="128520" cy="1694160"/>
          </a:xfrm>
          <a:prstGeom prst="rect">
            <a:avLst/>
          </a:prstGeom>
          <a:ln w="0">
            <a:noFill/>
          </a:ln>
        </p:spPr>
      </p:pic>
      <p:sp>
        <p:nvSpPr>
          <p:cNvPr id="308" name="Tekstiruutu 6"/>
          <p:cNvSpPr/>
          <p:nvPr/>
        </p:nvSpPr>
        <p:spPr>
          <a:xfrm>
            <a:off x="324000" y="2060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21/year on averag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2003-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9" name="Tekstiruutu 8"/>
          <p:cNvSpPr/>
          <p:nvPr/>
        </p:nvSpPr>
        <p:spPr>
          <a:xfrm>
            <a:off x="75564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300/year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in 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0" name="Tekstiruutu 9"/>
          <p:cNvSpPr/>
          <p:nvPr/>
        </p:nvSpPr>
        <p:spPr>
          <a:xfrm>
            <a:off x="324000" y="386064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10 % of al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victim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1" name="Tekstiruutu 10"/>
          <p:cNvSpPr/>
          <p:nvPr/>
        </p:nvSpPr>
        <p:spPr>
          <a:xfrm>
            <a:off x="324000" y="4869000"/>
            <a:ext cx="23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0% of females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over the age of 15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Tekstiruutu 11"/>
          <p:cNvSpPr/>
          <p:nvPr/>
        </p:nvSpPr>
        <p:spPr>
          <a:xfrm>
            <a:off x="6732720" y="1628640"/>
            <a:ext cx="480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nnually 8 %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 the people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 intimate partner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relationship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approx. 100 000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4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5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552A-6CC7-4776-B990-5DAE1FCEA53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0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What is MARAC?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MARAC is a local, multi agency victim-focused meeting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risk assessment process i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ctim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ous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omestic violence/abus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the meetings information is shared on the highest risk cases of domestic violence and abuse between different statutory and voluntary sector agencie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Finland, MARAC procedures and standards for operating MARAC meetings are coordinated by THL (National Institute for Health and Welfare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Video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303030"/>
                </a:solidFill>
                <a:uFillTx/>
                <a:latin typeface="Arial"/>
              </a:rPr>
              <a:t>https://www.youtube.com/watch?v=alje4zJOHIw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ADDB-5A22-4B55-9DA5-B4BDAC79403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7:05Z</dcterms:created>
  <dc:creator>Jaakko Säkö</dc:creator>
  <dc:description/>
  <dc:language>en-US</dc:language>
  <cp:lastModifiedBy>Laura Kornete</cp:lastModifiedBy>
  <cp:lastPrinted>2018-11-28T07:41:21Z</cp:lastPrinted>
  <dcterms:modified xsi:type="dcterms:W3CDTF">2019-04-03T07:49:52Z</dcterms:modified>
  <cp:revision>95</cp:revision>
  <dc:subject>suomi</dc:subject>
  <dc:title>Dia 1</dc:title>
</cp:coreProperties>
</file>